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68386"/>
        <c:axId val="6234404"/>
      </c:barChart>
      <c:catAx>
        <c:axId val="55468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4404"/>
        <c:crosses val="autoZero"/>
        <c:auto val="1"/>
        <c:lblAlgn val="ctr"/>
        <c:lblOffset val="100"/>
        <c:noMultiLvlLbl val="0"/>
      </c:catAx>
      <c:valAx>
        <c:axId val="6234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8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277-D88B-4FA3-AE88-E06FC36B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131-3C5A-4AC1-B133-3E4550A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774-E0D1-4AA8-A226-B460550A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6DB-086B-40F3-A373-63C0425E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5D0-EED8-47E8-91B6-0A5B1322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BCE-C742-40CB-BE2C-1A281B8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20F-B2A7-49DF-86B1-0D90E86E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B0ED-17F7-4BB3-8159-17939FCD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C06-C08F-4B74-A359-13EC28BB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52D-8FC0-44D5-AD66-F9CB554B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265-C13B-4F42-9AED-8BC035D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B60-292D-4D1F-8A59-B2C3AEC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6CB71-08C8-4900-94DB-247AACCCB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