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220426"/>
        <c:axId val="73903668"/>
      </c:barChart>
      <c:catAx>
        <c:axId val="31220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03668"/>
        <c:crosses val="autoZero"/>
        <c:auto val="1"/>
        <c:lblAlgn val="ctr"/>
        <c:lblOffset val="100"/>
        <c:noMultiLvlLbl val="0"/>
      </c:catAx>
      <c:valAx>
        <c:axId val="739036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20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5E02-54DB-4A55-A558-BFCF2AD9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806F-B325-43E7-8D21-F6814053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B424-520C-496C-8906-D3E5639F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0AEE-B7C2-4940-BE26-AD25F555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9BEA-B1CE-43FF-A4F9-DBDE4878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38D4-77DE-46F6-ADA2-F248F9F3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B77B-7018-436D-8B14-53F4A091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6268-001B-4DAA-B7C4-8E59DB8D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7276-1B08-4356-AA01-FE37D11C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2998-9F61-4CE7-9A52-E40DC444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14CB-5D7A-49BE-AD0A-ED0C7623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AF47-DFD4-485C-B3D3-E6C8CCBA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166F5-845A-4CF3-BC85-61DD7866BD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