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453967"/>
        <c:axId val="27955210"/>
      </c:barChart>
      <c:catAx>
        <c:axId val="445396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7955210"/>
        <c:crosses val="autoZero"/>
        <c:auto val="1"/>
        <c:lblAlgn val="ctr"/>
        <c:lblOffset val="100"/>
        <c:noMultiLvlLbl val="0"/>
      </c:catAx>
      <c:valAx>
        <c:axId val="2795521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45396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03212-2181-4100-8083-C58199207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459EC-8D08-4CCE-885C-C9B5ED62C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90E59-909A-434D-95B8-E24B22E67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2304B-1DB3-404D-8A36-E08D653F8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64CA2-E877-4804-B1FC-ADE93E276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3B673-E846-4A8D-A331-96BFFCAB8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3F48C-6C47-41AF-96DE-576FEA50F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B3AF9-43BC-4B44-BB04-F198EDB1D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7958A-A62A-411A-BF98-62E18D222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92CF3-9BD8-4BC7-9581-F1D73726B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E9008-06FC-48FF-A85D-4C07D549D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B0D13-4BD4-430E-B5D3-694DD97F0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F467A5-1880-4E5D-88ED-1B8F521E544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